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CC17-623A-40CB-AC9A-D4F36E95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CD3-9A82-4FAC-8DAC-ABDBC14D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4AD6-40B2-4B47-A59C-FD134FF3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C42-AA49-4123-A3CB-BC4276F8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D027-B002-411E-9BB2-2E5965F8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64EC-07E0-4E22-B41B-198F9058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F0A9-A14E-4775-A2D2-E28C14B6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04B3-C557-4090-9E67-24DE6D01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03C6-2745-4CD0-B75A-09262B55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D36F-D342-42C1-A5A3-C13D1AFB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7528-08CC-4EC8-A246-F66AEB7B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DB0-B8AF-44BF-B8C0-AC4B188F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CCB2-8641-42D9-850A-05AD7971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72CE-81EF-4B0E-BCD6-8EA279C8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4F65-FE59-4092-BE19-300A5E1D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CFC9-BFF8-47F8-9970-B03971CE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0FFB-B34B-45B3-B747-82CB920C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524F9-4478-4A71-B08B-54E1BF59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6AFA0-4759-434D-BDE0-91CA1FA4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531D2-C649-477A-A216-4F4BA503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10AB3-8FBA-4BCA-BB5C-40C0B314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DE75F-8004-41B7-B261-74D4D2DD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C0E-455F-4028-A5A2-EA512DB5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9B1F2-2086-4FBC-B7EA-E9463D78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541A9-5C02-46AF-9B2B-FE8A0288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15D57-0441-43AF-AAD0-56815262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D6737-3A17-4327-85E2-BACC79FC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5DFB2-BF27-4586-8335-53B55F0B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1D131-1010-4A50-898B-1977C2D9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5F93D-7C10-402D-BCA5-2AA30DE8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1454C-F674-4AE3-B1CC-3F668901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274C6-51A2-403F-9C3D-BC7E6F17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171DA-7A9A-4A23-B99F-74248DF0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E26-B3F9-4DEB-B108-1CA9A726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38290-1EAB-4E89-AEBD-CF02FB68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64234-51DB-4A06-9996-EDD83460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6E890-2445-4E25-A915-6402E987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58674-4EDF-4111-B76B-E96F827F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33F3A-DBF0-4B47-86C5-F2227EE2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12699-8915-46E4-8EE2-FEAA3150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39AA4-A1C0-454C-9745-E4F3C0DA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9D896-424E-45C3-ABA5-A0147001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9654D-D88B-4583-9994-2872FCAD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F71B3-17C8-4AD4-B513-D9182B07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102-C663-4D4C-8EFB-12BECF95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7D552-2EDB-4192-AC4C-6BEAB7E5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B2A3C-3430-4CA9-8010-AC15789E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86158-0A92-410B-9AE4-F0DF9528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02064-0835-49D3-99CB-C0C11533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0D3C0-9488-416F-A8F8-4319D3A5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55D61-DFF5-45F7-9565-B3F826B4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4A017-B825-4F87-8D6D-4B686DCA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AC813-1D81-4786-B62A-466D2E66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C59DF-F8F7-402A-BB71-BF0D8475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F18E0-BFEA-46DC-BC54-EE2EC1FA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4DB-56E3-4ACB-B1CD-C07C65BA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A4BB3-6BA8-4FE4-AA70-85D4572A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2FD-4897-4424-A93A-133CDBB0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C62C-67A0-4BD9-9C2B-F93A92B9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9A9-CF19-410E-A6A0-F54CC38C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DF34-B425-4975-B28A-BEF3891BF984}" type="slidenum">
              <a:rPr b="0" lang="fr-CA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7F5D-6FAE-4AC4-82B1-313F84AB789A}" type="slidenum">
              <a:rPr b="0" lang="fr-CA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4C47-1D17-47FE-B794-AA85B62BE534}" type="slidenum">
              <a:rPr b="0" lang="fr-CA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93BB-0DB5-40A8-BAA6-303926EEA401}" type="slidenum">
              <a:rPr b="0" lang="fr-CA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5AA4-FB3E-43AB-913B-989E1AACF6DB}" type="slidenum">
              <a:rPr b="0" lang="fr-CA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alend.ru/day/11-17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alend.ru/day/2-21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0920" y="620640"/>
            <a:ext cx="8047080" cy="4464000"/>
          </a:xfrm>
          <a:prstGeom prst="rect">
            <a:avLst/>
          </a:prstGeom>
          <a:gradFill rotWithShape="0">
            <a:gsLst>
              <a:gs pos="0">
                <a:srgbClr val="b5b6b8"/>
              </a:gs>
              <a:gs pos="100000">
                <a:srgbClr val="e8e9e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Bookman Old Style"/>
              </a:rPr>
              <a:t>Международный день родного языка</a:t>
            </a:r>
            <a:endParaRPr b="1" lang="en-US" sz="6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Franklin Gothic Book"/>
              </a:rPr>
              <a:t>(International Mother Language Day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Картинки по запросу русский язык"/>
          <p:cNvPicPr/>
          <p:nvPr/>
        </p:nvPicPr>
        <p:blipFill>
          <a:blip r:embed="rId1"/>
          <a:stretch/>
        </p:blipFill>
        <p:spPr>
          <a:xfrm>
            <a:off x="-71280" y="17640"/>
            <a:ext cx="9215280" cy="69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Картинки по запросу русский язык"/>
          <p:cNvPicPr/>
          <p:nvPr/>
        </p:nvPicPr>
        <p:blipFill>
          <a:blip r:embed="rId1"/>
          <a:stretch/>
        </p:blipFill>
        <p:spPr>
          <a:xfrm>
            <a:off x="-68400" y="0"/>
            <a:ext cx="924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214200" y="1643040"/>
            <a:ext cx="86439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Шарады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ова-загадки, в которых несколько букв, слогов или частей слова выделено и описано самостоятельн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им описаниям нужно разгадать целое сло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2"/>
          <p:cNvSpPr/>
          <p:nvPr/>
        </p:nvSpPr>
        <p:spPr>
          <a:xfrm>
            <a:off x="428760" y="21420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курс «Шарада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285840" y="476280"/>
            <a:ext cx="8572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ый слог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нятие рыбака,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г второй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и у мясник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е спортсмена отличает,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и нам с тобой не помеш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1500120" y="1714680"/>
            <a:ext cx="621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в-кост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714240" y="283680"/>
            <a:ext cx="8072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втору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вину шарады среди остальных игроков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чтобы получилось новое слово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1357200" y="1571760"/>
          <a:ext cx="6357960" cy="4906800"/>
        </p:xfrm>
        <a:graphic>
          <a:graphicData uri="http://schemas.openxmlformats.org/drawingml/2006/table">
            <a:tbl>
              <a:tblPr/>
              <a:tblGrid>
                <a:gridCol w="3429000"/>
                <a:gridCol w="2928960"/>
              </a:tblGrid>
              <a:tr h="4906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br>
                        <a:rPr sz="4000"/>
                      </a:br>
                      <a:br>
                        <a:rPr sz="4000"/>
                      </a:b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 - Дух</a:t>
                      </a:r>
                      <a:br>
                        <a:rPr sz="4000"/>
                      </a:b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 - Рак</a:t>
                      </a:r>
                      <a:br>
                        <a:rPr sz="4000"/>
                      </a:b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- Рот</a:t>
                      </a:r>
                      <a:br>
                        <a:rPr sz="4000"/>
                      </a:b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 - Лица</a:t>
                      </a:r>
                      <a:br>
                        <a:rPr sz="4000"/>
                      </a:b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д - Ово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br>
                        <a:rPr sz="4000"/>
                      </a:br>
                      <a:br>
                        <a:rPr sz="4000"/>
                      </a:b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- Беда</a:t>
                      </a:r>
                      <a:br>
                        <a:rPr sz="4000"/>
                      </a:b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 - Ус</a:t>
                      </a:r>
                      <a:br>
                        <a:rPr sz="4000"/>
                      </a:b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а - Док</a:t>
                      </a:r>
                      <a:br>
                        <a:rPr sz="4000"/>
                      </a:b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 - Осы</a:t>
                      </a:r>
                      <a:br>
                        <a:rPr sz="4000"/>
                      </a:b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 - Ел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Box 2"/>
          <p:cNvSpPr/>
          <p:nvPr/>
        </p:nvSpPr>
        <p:spPr>
          <a:xfrm>
            <a:off x="714240" y="285840"/>
            <a:ext cx="735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Картинки по запросу русский язык"/>
          <p:cNvPicPr/>
          <p:nvPr/>
        </p:nvPicPr>
        <p:blipFill>
          <a:blip r:embed="rId1"/>
          <a:stretch/>
        </p:blipFill>
        <p:spPr>
          <a:xfrm>
            <a:off x="-71280" y="17640"/>
            <a:ext cx="9215280" cy="69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1194480" y="0"/>
            <a:ext cx="690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курс «Угадай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"/>
          <p:cNvSpPr/>
          <p:nvPr/>
        </p:nvSpPr>
        <p:spPr>
          <a:xfrm>
            <a:off x="214200" y="1071720"/>
            <a:ext cx="871560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животное любит смотреть на новые воро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городе живет дядя, если у тети в огороде буз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льзя прочит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должен свистнуть, чтобы все сделано бы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чего в четверг мечты сбуду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Картинки по запросу русский язык"/>
          <p:cNvPicPr/>
          <p:nvPr/>
        </p:nvPicPr>
        <p:blipFill>
          <a:blip r:embed="rId1"/>
          <a:stretch/>
        </p:blipFill>
        <p:spPr>
          <a:xfrm>
            <a:off x="-71280" y="17640"/>
            <a:ext cx="9215280" cy="69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-360" y="1599840"/>
            <a:ext cx="5651640" cy="5257800"/>
          </a:xfrm>
          <a:prstGeom prst="rect">
            <a:avLst/>
          </a:prstGeom>
          <a:solidFill>
            <a:srgbClr val="b6c5d7"/>
          </a:solidFill>
          <a:ln w="7632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3231"/>
                </a:solidFill>
                <a:latin typeface="Bookman Old Style"/>
                <a:ea typeface="바탕"/>
              </a:rPr>
              <a:t>провозглашенный Генеральной конференцией ЮНЕСКО </a:t>
            </a:r>
            <a:br>
              <a:rPr sz="2800"/>
            </a:br>
            <a:r>
              <a:rPr b="1" lang="ru-RU" sz="2800" spc="-1" strike="noStrike" u="sng">
                <a:solidFill>
                  <a:srgbClr val="5f5f5f"/>
                </a:solidFill>
                <a:uFillTx/>
                <a:latin typeface="Bookman Old Style"/>
                <a:ea typeface="바탕"/>
                <a:hlinkClick r:id="rId2"/>
              </a:rPr>
              <a:t>17 ноября</a:t>
            </a:r>
            <a:r>
              <a:rPr b="1" lang="ru-RU" sz="2800" spc="-1" strike="noStrike">
                <a:solidFill>
                  <a:srgbClr val="323231"/>
                </a:solidFill>
                <a:latin typeface="Bookman Old Style"/>
                <a:ea typeface="바탕"/>
              </a:rPr>
              <a:t> 1999 года, </a:t>
            </a:r>
            <a:br>
              <a:rPr sz="2800"/>
            </a:br>
            <a:r>
              <a:rPr b="1" lang="ru-RU" sz="2800" spc="-1" strike="noStrike">
                <a:solidFill>
                  <a:srgbClr val="323231"/>
                </a:solidFill>
                <a:latin typeface="Bookman Old Style"/>
                <a:ea typeface="바탕"/>
              </a:rPr>
              <a:t>отмечается каждый год с февраля 2000 года с целью содействия языковому и культурному разнообразию и многоязычию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8" name="Рисунок 3" descr="Междудународный день родного языка - 21 февраля."/>
          <p:cNvPicPr/>
          <p:nvPr/>
        </p:nvPicPr>
        <p:blipFill>
          <a:blip r:embed="rId3"/>
          <a:stretch/>
        </p:blipFill>
        <p:spPr>
          <a:xfrm>
            <a:off x="6156360" y="1916280"/>
            <a:ext cx="2495520" cy="1895400"/>
          </a:xfrm>
          <a:prstGeom prst="rect">
            <a:avLst/>
          </a:prstGeom>
          <a:ln w="76320">
            <a:solidFill>
              <a:srgbClr val="fba67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8893080" cy="549360"/>
          </a:xfrm>
          <a:prstGeom prst="rect">
            <a:avLst/>
          </a:prstGeom>
          <a:solidFill>
            <a:srgbClr val="3c536f"/>
          </a:solidFill>
          <a:ln w="76320">
            <a:solidFill>
              <a:srgbClr val="28374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ffffff"/>
                </a:solidFill>
                <a:latin typeface="Book Antiqua"/>
                <a:ea typeface="바탕"/>
              </a:rPr>
              <a:t>МЕЖДУНАРОДНЫЙ ДЕНЬ РОДНОГО ЯЗЫКА </a:t>
            </a:r>
            <a:br>
              <a:rPr sz="2500"/>
            </a:br>
            <a:r>
              <a:rPr b="1" lang="ru-RU" sz="2500" spc="-1" strike="noStrike">
                <a:solidFill>
                  <a:srgbClr val="ffffff"/>
                </a:solidFill>
                <a:latin typeface="Book Antiqua"/>
                <a:ea typeface="바탕"/>
              </a:rPr>
              <a:t>(INTERNATIONAL MOTHER LANGUAGE DAY), </a:t>
            </a:r>
            <a:br>
              <a:rPr sz="32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3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214200" y="1163520"/>
            <a:ext cx="41436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поле береза стоя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поле кудрявая стоя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ли-люли, стоя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ли-люли, стоя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му березу заломат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му кудряву заломат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ли-люли, заломат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ли-люли, залом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ж пойду, пойду погуля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ую березу залома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ли-люли, залома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ли-люли, залом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4500720" y="1143000"/>
            <a:ext cx="464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жу я с березы три пруточ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ю из них я три гудоч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ли-люли, три гудоч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ли-люли, три гуд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етвертую балалайк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етвертую балалайк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ли-люли, балалайк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ли-люли, балалай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йду на новые на сен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у в балалаечку играт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ли-люли, играт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ли-люли, играти!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4"/>
          <p:cNvSpPr/>
          <p:nvPr/>
        </p:nvSpPr>
        <p:spPr>
          <a:xfrm>
            <a:off x="1285920" y="0"/>
            <a:ext cx="721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ая народная пес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5"/>
          <p:cNvSpPr/>
          <p:nvPr/>
        </p:nvSpPr>
        <p:spPr>
          <a:xfrm>
            <a:off x="5000760" y="1357200"/>
            <a:ext cx="38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narodnaya-vo-pole-bereza-stoyala-minus.mp3" descr=""/>
          <p:cNvPicPr/>
          <p:nvPr/>
        </p:nvPicPr>
        <p:blipFill>
          <a:blip r:embed="rId1"/>
          <a:stretch/>
        </p:blipFill>
        <p:spPr>
          <a:xfrm>
            <a:off x="8429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36327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Прямоугольник 1" descr=""/>
          <p:cNvPicPr/>
          <p:nvPr/>
        </p:nvPicPr>
        <p:blipFill>
          <a:blip r:embed="rId1"/>
          <a:stretch/>
        </p:blipFill>
        <p:spPr>
          <a:xfrm>
            <a:off x="122400" y="334800"/>
            <a:ext cx="7894440" cy="189072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2" descr=""/>
          <p:cNvPicPr/>
          <p:nvPr/>
        </p:nvPicPr>
        <p:blipFill>
          <a:blip r:embed="rId2"/>
          <a:stretch/>
        </p:blipFill>
        <p:spPr>
          <a:xfrm>
            <a:off x="1427040" y="1395360"/>
            <a:ext cx="7577280" cy="1938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Картинки по запросу русский язык"/>
          <p:cNvPicPr/>
          <p:nvPr/>
        </p:nvPicPr>
        <p:blipFill>
          <a:blip r:embed="rId3"/>
          <a:stretch/>
        </p:blipFill>
        <p:spPr>
          <a:xfrm>
            <a:off x="2714760" y="2749680"/>
            <a:ext cx="410832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Картинки по запросу русский язык"/>
          <p:cNvPicPr/>
          <p:nvPr/>
        </p:nvPicPr>
        <p:blipFill>
          <a:blip r:embed="rId1"/>
          <a:stretch/>
        </p:blipFill>
        <p:spPr>
          <a:xfrm>
            <a:off x="-165240" y="571680"/>
            <a:ext cx="9414000" cy="5859360"/>
          </a:xfrm>
          <a:prstGeom prst="rect">
            <a:avLst/>
          </a:prstGeom>
          <a:ln w="0">
            <a:noFill/>
          </a:ln>
        </p:spPr>
      </p:pic>
      <p:pic>
        <p:nvPicPr>
          <p:cNvPr id="267" name="hymn.mp3" descr=""/>
          <p:cNvPicPr/>
          <p:nvPr/>
        </p:nvPicPr>
        <p:blipFill>
          <a:blip r:embed="rId2"/>
          <a:stretch/>
        </p:blipFill>
        <p:spPr>
          <a:xfrm>
            <a:off x="883908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325852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-360" y="1143000"/>
            <a:ext cx="5651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23231"/>
                </a:solidFill>
                <a:latin typeface="Times New Roman"/>
                <a:ea typeface="Times New Roman"/>
              </a:rPr>
              <a:t>2010 год был провозглашен Международным годом во имя сближения культур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23231"/>
                </a:solidFill>
                <a:latin typeface="Times New Roman"/>
                <a:ea typeface="Times New Roman"/>
              </a:rPr>
              <a:t>(International Year for the Rapprochement of Cultures)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Verdana"/>
                <a:ea typeface="Times New Roman"/>
              </a:rPr>
              <a:t>Настенное изображение, символизирующее многоязычие.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1" name="Picture 3" descr="home_languages_02"/>
          <p:cNvPicPr/>
          <p:nvPr/>
        </p:nvPicPr>
        <p:blipFill>
          <a:blip r:embed="rId1"/>
          <a:stretch/>
        </p:blipFill>
        <p:spPr>
          <a:xfrm>
            <a:off x="6084720" y="2060640"/>
            <a:ext cx="2476800" cy="2476440"/>
          </a:xfrm>
          <a:prstGeom prst="rect">
            <a:avLst/>
          </a:prstGeom>
          <a:ln w="38160">
            <a:solidFill>
              <a:srgbClr val="0679a3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ССАМБЛЕЯ ООН В СВОЕЙ РЕЗОЛЮЦИИ ОБЪЯВИЛА </a:t>
            </a:r>
            <a:br>
              <a:rPr sz="2500"/>
            </a:br>
            <a:r>
              <a:rPr b="1" i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8 ГОД МЕЖДУНАРОДНЫМ ГОДОМ ЯЗЫКОВ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med"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4286160" cy="37990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3231"/>
                </a:solidFill>
                <a:latin typeface="Times New Roman"/>
                <a:ea typeface="Times New Roman"/>
              </a:rPr>
              <a:t>ЯЗЫКИ </a:t>
            </a:r>
            <a:br>
              <a:rPr sz="2900"/>
            </a:br>
            <a:r>
              <a:rPr b="0" lang="ru-RU" sz="2900" spc="-1" strike="noStrike">
                <a:solidFill>
                  <a:srgbClr val="323231"/>
                </a:solidFill>
                <a:latin typeface="Times New Roman"/>
                <a:ea typeface="Times New Roman"/>
              </a:rPr>
              <a:t>ЯВЛЯЮТСЯ САМЫМ СИЛЬНЫМ ИНСТРУМЕНТОМ СОХРАНЕНИЯ И РАЗВИТИЯ НАШЕГО МАТЕРИАЛЬНОГО И ДУХОВНОГО НАСЛЕДИЯ</a:t>
            </a:r>
            <a:r>
              <a:rPr b="0" lang="ru-RU" sz="2500" spc="-1" strike="noStrike">
                <a:solidFill>
                  <a:srgbClr val="6d593a"/>
                </a:solidFill>
                <a:latin typeface="Franklin Gothic Med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85480" y="4429080"/>
            <a:ext cx="8643960" cy="2000160"/>
          </a:xfrm>
          <a:prstGeom prst="rect">
            <a:avLst/>
          </a:prstGeom>
          <a:solidFill>
            <a:srgbClr val="b6c5d7"/>
          </a:solidFill>
          <a:ln w="7632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Franklin Gothic Book"/>
              </a:rPr>
              <a:t>По оценкам ЮНЕСКО, половина из примерно 6 тысяч языков мира могут в ближайшее время потерять последних носителей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4200" y="285480"/>
            <a:ext cx="385776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1" lang="en-US" sz="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6" name="Picture 5" descr="edito01_250_14"/>
          <p:cNvPicPr/>
          <p:nvPr/>
        </p:nvPicPr>
        <p:blipFill>
          <a:blip r:embed="rId1"/>
          <a:stretch/>
        </p:blipFill>
        <p:spPr>
          <a:xfrm>
            <a:off x="4280040" y="133200"/>
            <a:ext cx="4655880" cy="4078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28760" y="17859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3000"/>
            <a:ext cx="8972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3231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323231"/>
                </a:solidFill>
                <a:latin typeface="Times New Roman"/>
                <a:ea typeface="Times New Roman"/>
              </a:rPr>
              <a:t>Эта дата была выбрана в знак памяти событий 21 февраля 1952 года, когда в Дакке, столице нынешней Бангладеш, от пуль полицейских погибли студенты — участники демонстрации в защиту своего родного языка </a:t>
            </a:r>
            <a:r>
              <a:rPr b="1" lang="ru-RU" sz="2800" spc="-1" strike="noStrike" u="sng">
                <a:solidFill>
                  <a:srgbClr val="323231"/>
                </a:solidFill>
                <a:uFillTx/>
                <a:latin typeface="Times New Roman"/>
                <a:ea typeface="Times New Roman"/>
              </a:rPr>
              <a:t>бенгали</a:t>
            </a:r>
            <a:r>
              <a:rPr b="1" lang="ru-RU" sz="2800" spc="-1" strike="noStrike">
                <a:solidFill>
                  <a:srgbClr val="323231"/>
                </a:solidFill>
                <a:latin typeface="Times New Roman"/>
                <a:ea typeface="Times New Roman"/>
              </a:rPr>
              <a:t>, который они требовали признать одним из государственных языков страны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5f5f5f"/>
                </a:solidFill>
                <a:uFillTx/>
                <a:latin typeface="Franklin Gothic Medium"/>
                <a:hlinkClick r:id="rId1"/>
              </a:rPr>
              <a:t>21 ФЕВРАЛЯ</a:t>
            </a:r>
            <a:r>
              <a:rPr b="1" lang="ru-RU" sz="2800" spc="-1" strike="noStrike">
                <a:solidFill>
                  <a:srgbClr val="ff0000"/>
                </a:solidFill>
                <a:latin typeface="Franklin Gothic Medi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0" name="Picture 1" descr="Бангладеш"/>
          <p:cNvPicPr/>
          <p:nvPr/>
        </p:nvPicPr>
        <p:blipFill>
          <a:blip r:embed="rId2"/>
          <a:stretch/>
        </p:blipFill>
        <p:spPr>
          <a:xfrm>
            <a:off x="1646280" y="4145040"/>
            <a:ext cx="5413320" cy="271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71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3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1"/>
                </a:solidFill>
                <a:latin typeface="Times New Roman"/>
                <a:ea typeface="Times New Roman"/>
              </a:rPr>
              <a:t>В ООН только 6 официальных языков: 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глийский, 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2e1fa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e1fa1"/>
                </a:solidFill>
                <a:latin typeface="Times New Roman"/>
                <a:ea typeface="Times New Roman"/>
              </a:rPr>
              <a:t>французский, 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24662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46627"/>
                </a:solidFill>
                <a:latin typeface="Times New Roman"/>
                <a:ea typeface="Times New Roman"/>
              </a:rPr>
              <a:t>арабский, 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итайский, 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, 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2e1fa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e1fa1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28374a"/>
                </a:solidFill>
                <a:latin typeface="Times New Roman"/>
                <a:ea typeface="Times New Roman"/>
              </a:rPr>
              <a:t>испанский.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ipe dir="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24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27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3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33" dur="2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36" dur="2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39" dur="2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42" dur="2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45" dur="2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Содержимое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на Земле около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00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зыков, из которых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63204"/>
                </a:solidFill>
                <a:latin typeface="Times New Roman"/>
                <a:ea typeface="Times New Roman"/>
              </a:rPr>
              <a:t>1000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фриканских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23231"/>
                </a:solidFill>
                <a:latin typeface="Times New Roman"/>
                <a:ea typeface="Times New Roman"/>
              </a:rPr>
              <a:t>700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апуасски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7 L 0.108 0.08267 L 0.072 0.16667 L 0.108 0.24933 L 0.036 0.24933 L 0 0.33333 L -0.036 0.24933 L -0.108 0.24933 L -0.072 0.16667 L -0.108 0.08267 L -0.036 0.08267 L 0 0 Z">
                                      <p:cBhvr>
                                        <p:cTn id="151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7 L 0.108 0.08267 L 0.072 0.16667 L 0.108 0.24933 L 0.036 0.24933 L 0 0.33333 L -0.036 0.24933 L -0.108 0.24933 L -0.072 0.16667 L -0.108 0.08267 L -0.036 0.08267 L 0 0 Z">
                                      <p:cBhvr>
                                        <p:cTn id="154" dur="2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7 L 0.108 0.08267 L 0.072 0.16667 L 0.108 0.24933 L 0.036 0.24933 L 0 0.33333 L -0.036 0.24933 L -0.108 0.24933 L -0.072 0.16667 L -0.108 0.08267 L -0.036 0.08267 L 0 0 Z">
                                      <p:cBhvr>
                                        <p:cTn id="157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67 L 0.108 0.08267 L 0.072 0.16667 L 0.108 0.24933 L 0.036 0.24933 L 0 0.33333 L -0.036 0.24933 L -0.108 0.24933 L -0.072 0.16667 L -0.108 0.08267 L -0.036 0.08267 L 0 0 Z">
                                      <p:cBhvr>
                                        <p:cTn id="160" dur="2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, НА КОТОРЫХ ГОВОРЯТ ЛЮДИ РАЗНЫХ СТРАН, КЛАССИФИЦИРУЮТСЯ ПО </a:t>
            </a:r>
            <a:r>
              <a:rPr b="0" lang="ru-RU" sz="2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ЯЗЫКОВЫМ СЕМЬЯ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ЛОЖИВШИМСЯ В ДАВНИЕ ВРЕМЕНА В СООТВЕТСТВИИ СО СЛОВАРНЫМ СОСТАВОМ И СИНТАКСИСОМ. 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471492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Й ПОПУЛЯРНОЙ В МИРЕ ЯВЛЯЕТСЯ </a:t>
            </a:r>
            <a:r>
              <a:rPr b="0" lang="ru-RU" sz="1400" spc="-1" strike="noStrike" u="sng">
                <a:solidFill>
                  <a:srgbClr val="2e1fa1"/>
                </a:solidFill>
                <a:uFillTx/>
                <a:latin typeface="Times New Roman"/>
                <a:ea typeface="Times New Roman"/>
              </a:rPr>
              <a:t>ИНДОЕВРОПЕЙСКА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МЬЯ. НА ЕЕ ЯЗЫКАХ ГОВОРЯТ ПРИМЕРНО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ЛРД ЧЕЛОВЕК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4000680"/>
            <a:ext cx="4040280" cy="21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1800"/>
            </a:b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4720" y="4285800"/>
            <a:ext cx="404172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й следует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итайско-тибетская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(сино-тибетская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 млрд человек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7" name="Picture 5" descr="Молодые матери учатся читать и писать на занятиях по борьбе с неграмотностью, которые проводит организация «Literacy House» в деревне около Лакнау, Индия."/>
          <p:cNvPicPr/>
          <p:nvPr/>
        </p:nvPicPr>
        <p:blipFill>
          <a:blip r:embed="rId1"/>
          <a:stretch/>
        </p:blipFill>
        <p:spPr>
          <a:xfrm>
            <a:off x="2286000" y="3071880"/>
            <a:ext cx="2239920" cy="1481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japan_02"/>
          <p:cNvPicPr/>
          <p:nvPr/>
        </p:nvPicPr>
        <p:blipFill>
          <a:blip r:embed="rId2"/>
          <a:stretch/>
        </p:blipFill>
        <p:spPr>
          <a:xfrm>
            <a:off x="6000840" y="2786040"/>
            <a:ext cx="1803240" cy="1201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Бангладеш"/>
          <p:cNvPicPr/>
          <p:nvPr/>
        </p:nvPicPr>
        <p:blipFill>
          <a:blip r:embed="rId3"/>
          <a:stretch/>
        </p:blipFill>
        <p:spPr>
          <a:xfrm>
            <a:off x="1071720" y="5072040"/>
            <a:ext cx="2778120" cy="1389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CE543B8C-5782-32F1-AB06-15A11EC6A2A8"/>
          <p:cNvPicPr/>
          <p:nvPr/>
        </p:nvPicPr>
        <p:blipFill>
          <a:blip r:embed="rId4"/>
          <a:stretch/>
        </p:blipFill>
        <p:spPr>
          <a:xfrm>
            <a:off x="6286680" y="1571760"/>
            <a:ext cx="2570040" cy="1285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0CEDC340-C5F2-3E53-8E57-290C70D41808"/>
          <p:cNvPicPr/>
          <p:nvPr/>
        </p:nvPicPr>
        <p:blipFill>
          <a:blip r:embed="rId5"/>
          <a:stretch/>
        </p:blipFill>
        <p:spPr>
          <a:xfrm>
            <a:off x="0" y="3786120"/>
            <a:ext cx="2786040" cy="1393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ЧЕМУ МЫ ДОЛЖНЫ БЕРЕЧЬ И СОХРАНЯТЬ РУССКИЙ ЯЗЫК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599840"/>
            <a:ext cx="5000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имеющимся данным за последнее десятилетие число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оговорящих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анете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кратилос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чти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а 250 миллионо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.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4" name="Рисунок 3" descr="Святейший Патриарх Кирилл примет участие в III Сретенских встречах православной молодежи"/>
          <p:cNvPicPr/>
          <p:nvPr/>
        </p:nvPicPr>
        <p:blipFill>
          <a:blip r:embed="rId1"/>
          <a:stretch/>
        </p:blipFill>
        <p:spPr>
          <a:xfrm>
            <a:off x="5089680" y="1785960"/>
            <a:ext cx="405432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9:06:17Z</dcterms:created>
  <dc:creator>Денис</dc:creator>
  <dc:description/>
  <dc:language>en-US</dc:language>
  <cp:lastModifiedBy>Администратор</cp:lastModifiedBy>
  <dcterms:modified xsi:type="dcterms:W3CDTF">2022-05-03T04:23:40Z</dcterms:modified>
  <cp:revision>65</cp:revision>
  <dc:subject/>
  <dc:title>Название презентации</dc:title>
</cp:coreProperties>
</file>